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F00-2A75-433E-8B69-458A798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99B-EAED-4479-9E9D-C074976C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D74-BAC7-4760-95DB-7A2DCAAE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AF1-CB67-4A31-801D-0B1B3FE1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D19-31B2-4BB5-919B-130D1370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F70-CC68-4374-8209-EF55005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784-E6A8-4CFB-9C0C-A06A1438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748-84D6-4B42-A7EB-DAFADDE1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04E-7116-493B-BE16-699DA09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E1A-7CFC-48A2-864B-4EFEA52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A75-134E-4C1E-BB48-38AF150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849-9528-4E95-B65D-A9B768B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483-527C-4B70-98A8-67A9F2C50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5360" y="2743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ail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7320" y="28195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90512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838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60280" y="304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1752480" cy="15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838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240" y="27036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41360" y="304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352680" y="32004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762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1:08:29Z</dcterms:created>
  <dc:creator>Student</dc:creator>
  <dc:description/>
  <dc:language>en-US</dc:language>
  <cp:lastModifiedBy>Student</cp:lastModifiedBy>
  <dcterms:modified xsi:type="dcterms:W3CDTF">2009-01-14T21:19:02Z</dcterms:modified>
  <cp:revision>3</cp:revision>
  <dc:subject/>
  <dc:title>Slide 1</dc:title>
</cp:coreProperties>
</file>